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B37-81EE-435D-97EA-0E07067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A75-BBB8-47D5-8CD0-F4A1F6A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A5C-29A2-4E57-B5B5-A4B83A5F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2F5-BFC4-422A-A1FC-5C31C768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D2F-2E67-45D0-8861-6F48CDE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79F-524E-477B-BEFA-F3B99F5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385-434C-48D2-93B8-85EF9F18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4AF-52F1-44F3-8470-7E58C5EA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351-F0BA-42E7-99ED-0286659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0B3-CD9B-4847-A9B2-9DB2BF3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95E-7C63-4C74-83E6-571D584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CF3-7B6F-4E15-A2A9-C281A0A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930-9434-494C-8952-B3C71BEEA9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° Congresso Regiona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EU Lazio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ma 06-07 giugn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GESTIONE DEGLI OGGETTI PERS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DEL PAZIENTE NON AUTOSUFFIC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4640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PROPOSTA DI UN SOFTWARE AP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776920"/>
            <a:ext cx="7315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IPP  L.CIPOLLONI, IIPP A. DI GIORGIO, IIPP N. LORCERIE, IIPP. M. MARCE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IPP. R. MAZZUCCO, IIPP. P. PICA, IIPP.  P. PORCELLI, IIPP. R. STRAMAZ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-5004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U.O. Medicina d’Urg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.M.Goretti - L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533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Benguiat Bk BT"/>
              </a:rPr>
              <a:t>ASSISTENZA AL PAZIENTE CRI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523880"/>
            <a:ext cx="6933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STENZA INFERMIER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STO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42900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API DI VEST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GGETTI DI V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97180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3962520"/>
            <a:ext cx="3276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EN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IOI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OC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ELLU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cc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1219320" cy="304560"/>
          </a:xfrm>
          <a:prstGeom prst="rightArrow">
            <a:avLst>
              <a:gd name="adj1" fmla="val 50000"/>
              <a:gd name="adj2" fmla="val 1000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505320"/>
            <a:ext cx="761760" cy="380880"/>
          </a:xfrm>
          <a:prstGeom prst="rightArrow">
            <a:avLst>
              <a:gd name="adj1" fmla="val 41667"/>
              <a:gd name="adj2" fmla="val 589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114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nguiat Bk BT"/>
              </a:rPr>
              <a:t>INFERMIERE PROFESSI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752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76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UTORITA’ GIUDIZI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59092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LIZ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UARDIA GIUR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82880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6200" y="42670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57913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5943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’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6095880"/>
            <a:ext cx="2133360" cy="38124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imes New Roman"/>
              </a:rPr>
              <a:t>CHI CI TUTELA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333cc"/>
                </a:solidFill>
                <a:latin typeface="Times New Roman"/>
              </a:rPr>
              <a:t>Richiesta informazioni press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→     </a:t>
            </a:r>
            <a:r>
              <a:rPr b="0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Direzione sani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→     </a:t>
            </a:r>
            <a:r>
              <a:rPr b="0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.P.A.S.V.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→     </a:t>
            </a:r>
            <a:r>
              <a:rPr b="0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oliz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→     </a:t>
            </a:r>
            <a:r>
              <a:rPr b="0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edico leg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→     </a:t>
            </a:r>
            <a:r>
              <a:rPr b="0" lang="it-IT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vvoca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EGGE INESISTEN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1" dur="2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RESPONSABILITA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ustodia temporanea degli ogget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 val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ichiesta da parte dei familia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 oggetti anche danneggia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05120" y="6858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BIETTIV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5438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ARANTIRE UNA CORRETTA GESTIONE DEGLI OGGETTI PERS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UTELARE L’OPERATORE SA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REARE  U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COLLO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DI COMPORTAMENTO CODIFICATO VALIDO PER TUTTI I TIPI DI P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609480"/>
            <a:ext cx="6858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Times New Roman"/>
              </a:rPr>
              <a:t>PROTOCOLLO PER LA GEST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Times New Roman"/>
              </a:rPr>
              <a:t>DEGLI OGGETTI PERSONALI 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Times New Roman"/>
              </a:rPr>
              <a:t>PAZIENTE NON AUTOSUFFIC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39880" y="609480"/>
            <a:ext cx="3864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81080" y="533520"/>
            <a:ext cx="52578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ON SOTTOVALUTARE 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362320" y="2438280"/>
            <a:ext cx="4343400" cy="447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DICE DEONTOLOGIC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762120"/>
            <a:ext cx="1523880" cy="22860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685800"/>
            <a:ext cx="1295280" cy="2133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48120"/>
            <a:ext cx="9144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.4  IL CODICE DEONTOLOGICO GUIDA L’INFERMIERE NELLO SVILUPPO DELLA IDENTITA’ PROFESSIONALE E NELL’ASSUNZIONE DI UN COMPORTAMENTO ETICAMENTE RESPONS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6.2 L’INFERMIERE COMPENZA LE CARENZE DELLA STRUTTURA ATTRAVERSO UN COMPORTAMENTO ISPIRATO ALLA COOPERAZIONE, NELL’INTERESSE DEI CITTADINI E DELLE ISTITU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8:16:11Z</dcterms:created>
  <dc:creator>Marchionne Maurizio</dc:creator>
  <dc:description/>
  <dc:language>en-US</dc:language>
  <cp:lastModifiedBy>Carlo</cp:lastModifiedBy>
  <dcterms:modified xsi:type="dcterms:W3CDTF">2002-06-03T16:39:51Z</dcterms:modified>
  <cp:revision>12</cp:revision>
  <dc:subject/>
  <dc:title>1° Congresso Regionale SIMEU Lazio Roma 06-07 giugno 2002</dc:title>
</cp:coreProperties>
</file>